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5C277-0F74-4EFB-AE57-F56FA9DFC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D831C-9DD4-4180-9562-0C63681CA70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F4223-FCD6-4946-B5D8-8D2E4B68F29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923E-6C96-4660-8220-E96D5D0F1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724C-A4B7-4F30-8645-9C69A3550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151A-CD81-4B2B-868A-A29E19641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4CCB-6AE3-4F0B-994A-4F362A0CC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2CB160-46EE-4C60-84BA-65F1CA2AE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1FF7BC-4C05-4B09-9B7B-E25A2279C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63CCE0-133F-4024-9EFD-CCC6B6F82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DF684E-827B-4948-8259-285BC2D51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E40D1D-6F74-4A6F-AC54-AA4380C93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F55D5D-2137-4F58-8AD9-459D4BB31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4EFE78-8A1D-4AFA-980B-F5B91EB4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707C-B4FA-4795-99F4-B9E84005E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DDB09C-E33E-4172-9169-846A9B91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121C44-C14D-4BBD-AD48-3BF5B36D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5251A3-4CAF-4C49-A301-67AB1A99C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DBBC98-2FE1-4CCD-8970-324EB8AB6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A53974-FF11-4582-9F1B-CBB9BBB17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DE1B-FA9B-45C2-959C-1767CC38D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4D6E-6F92-44DF-B628-7279232CF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E296-35EF-4644-BBC3-B4DD32208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A525-4569-41CF-BFA9-18F8A6551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9FA3-BFA8-41DB-9DBE-0128D6F3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56C4-A4C5-4030-850C-094939181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C867-F196-4ECC-ABDD-71EEE0BF2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159ED-A87B-42DF-AD25-75D9E569D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436C4-8437-4773-9332-C53BE57D570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vickiblackwell.com/timer.html" TargetMode="External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cottsboro.org/~flewis/spellmaster/Henry%20&amp;%20Mudge/jigword2.html" TargetMode="External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cottsboro.org/~flewis/spellmaster/Henry%20&amp;%20Mudge/jigword2.html" TargetMode="External"/><Relationship Id="rId2" Type="http://schemas.openxmlformats.org/officeDocument/2006/relationships/hyperlink" Target="http://www.scottsboro.org/~flewis/SF%20Reading%20Street/Hot%20Potatoes/Henry_&amp;_Mudge.htm" TargetMode="External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pellingcity.com/index.php?option=com_spellcity&amp;Itemid=122&amp;task=viewList&amp;listId=354196" TargetMode="Externa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25.xml"/><Relationship Id="rId3" Type="http://schemas.openxmlformats.org/officeDocument/2006/relationships/slide" Target="slide56.xml"/><Relationship Id="rId4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What can we discover by exploring nature?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0" name="Picture 13" descr="Henry &amp; Mudge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124080" y="1371600"/>
            <a:ext cx="3098880" cy="45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Exploring Space</a:t>
            </a:r>
            <a:br>
              <a:rPr sz="4000"/>
            </a:b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Monday</a:t>
            </a:r>
            <a:br>
              <a:rPr sz="3600"/>
            </a:b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905120" y="2819520"/>
          <a:ext cx="6095880" cy="22622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275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galax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00"/>
                </a:solidFill>
                <a:latin typeface="Arial"/>
              </a:rPr>
              <a:t>gal – ax - 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i="1" lang="en-US" sz="3200" spc="-1" strike="noStrike">
                <a:solidFill>
                  <a:srgbClr val="808000"/>
                </a:solidFill>
                <a:latin typeface="Arial"/>
              </a:rPr>
              <a:t>galax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a huge group of stars.  Earth and the sun are part of a big galax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a clear night you can see a </a:t>
            </a:r>
            <a:r>
              <a:rPr b="1" i="1" lang="en-US" sz="3200" spc="-1" strike="noStrike">
                <a:solidFill>
                  <a:srgbClr val="808000"/>
                </a:solidFill>
                <a:latin typeface="Arial"/>
              </a:rPr>
              <a:t>galax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sta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ientists say there are lots of </a:t>
            </a:r>
            <a:r>
              <a:rPr b="1" i="1" lang="en-US" sz="3200" spc="-1" strike="noStrike">
                <a:solidFill>
                  <a:srgbClr val="808000"/>
                </a:solidFill>
                <a:latin typeface="Arial"/>
              </a:rPr>
              <a:t>galaxi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esides the one we are 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tranquil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00"/>
                </a:solidFill>
                <a:latin typeface="Arial"/>
              </a:rPr>
              <a:t>tran - qu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8000"/>
                </a:solidFill>
                <a:latin typeface="Arial"/>
              </a:rPr>
              <a:t>Tranqui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how you feel when you are very calm and peacefu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king at the stars makes me feel </a:t>
            </a:r>
            <a:r>
              <a:rPr b="1" i="1" lang="en-US" sz="3200" spc="-1" strike="noStrike">
                <a:solidFill>
                  <a:srgbClr val="808000"/>
                </a:solidFill>
                <a:latin typeface="Arial"/>
              </a:rPr>
              <a:t>tranqui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warm summer night seems </a:t>
            </a:r>
            <a:r>
              <a:rPr b="1" i="1" lang="en-US" sz="3200" spc="-1" strike="noStrike">
                <a:solidFill>
                  <a:srgbClr val="808000"/>
                </a:solidFill>
                <a:latin typeface="Arial"/>
              </a:rPr>
              <a:t>tranqui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wildlif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00"/>
                </a:solidFill>
                <a:latin typeface="Arial"/>
              </a:rPr>
              <a:t>wild -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imals and plants that live wild outdoors are called </a:t>
            </a:r>
            <a:r>
              <a:rPr b="1" i="1" lang="en-US" sz="3200" spc="-1" strike="noStrike">
                <a:solidFill>
                  <a:srgbClr val="808000"/>
                </a:solidFill>
                <a:latin typeface="Arial"/>
              </a:rPr>
              <a:t>wildlif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many kinds of </a:t>
            </a:r>
            <a:r>
              <a:rPr b="1" i="1" lang="en-US" sz="3200" spc="-1" strike="noStrike">
                <a:solidFill>
                  <a:srgbClr val="808000"/>
                </a:solidFill>
                <a:latin typeface="Arial"/>
              </a:rPr>
              <a:t>wildlif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the fore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saw many kinds of </a:t>
            </a:r>
            <a:r>
              <a:rPr b="1" i="1" lang="en-US" sz="3200" spc="-1" strike="noStrike">
                <a:solidFill>
                  <a:srgbClr val="808000"/>
                </a:solidFill>
                <a:latin typeface="Arial"/>
              </a:rPr>
              <a:t>wildlif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hen we went camp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Consonant Blend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2819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b ac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w 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tr u 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spr ea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as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tr i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2209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gr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flu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stam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pl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strip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scru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01028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Making Word</a:t>
            </a:r>
            <a:br>
              <a:rPr sz="4400"/>
            </a:b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 Letter Til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228600" y="1752480"/>
            <a:ext cx="8686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b - c - d -  f - l - m - n - p - r - s -  t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ord Read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971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w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o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i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m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ru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81120" y="1600200"/>
            <a:ext cx="2590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u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ra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e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l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enry &amp; Mud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838080" y="1905120"/>
          <a:ext cx="3200400" cy="4190760"/>
        </p:xfrm>
        <a:graphic>
          <a:graphicData uri="http://schemas.openxmlformats.org/drawingml/2006/table">
            <a:tbl>
              <a:tblPr/>
              <a:tblGrid>
                <a:gridCol w="3200400"/>
              </a:tblGrid>
              <a:tr h="41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na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n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i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4917960" y="1905120"/>
          <a:ext cx="3311640" cy="4190760"/>
        </p:xfrm>
        <a:graphic>
          <a:graphicData uri="http://schemas.openxmlformats.org/drawingml/2006/table">
            <a:tbl>
              <a:tblPr/>
              <a:tblGrid>
                <a:gridCol w="3311640"/>
              </a:tblGrid>
              <a:tr h="41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op             mas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ap            twi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             breez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nd            sta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ave           </a:t>
                      </a:r>
                      <a:r>
                        <a:rPr b="0" lang="en-US" sz="24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brows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k              </a:t>
                      </a:r>
                      <a:r>
                        <a:rPr b="0" lang="en-US" sz="24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straigh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ip              </a:t>
                      </a:r>
                      <a:r>
                        <a:rPr b="0" lang="en-US" sz="24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skelet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Let’s Talk About </a:t>
            </a:r>
            <a:br>
              <a:rPr sz="5400"/>
            </a:br>
            <a:r>
              <a:rPr b="0" lang="en-US" sz="5400" spc="-1" strike="noStrike">
                <a:solidFill>
                  <a:srgbClr val="00ffcc"/>
                </a:solidFill>
                <a:latin typeface="Arial"/>
              </a:rPr>
              <a:t>Exploration!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haracter and Sett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acters are the people or animals in stor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ors describe their characters.  They tell what the characters look like, how they act, and how they think.  They also tell about the setting, or where the story takes pla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nowing about characters and setting can help a reader better understand a sto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Small Groups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Tim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Read Aloud </a:t>
            </a:r>
            <a:br>
              <a:rPr sz="5400"/>
            </a:b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st a Little Pati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aily Fix-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e saw a bird’s nesst in a tree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cccc"/>
                </a:solidFill>
                <a:latin typeface="Arial"/>
              </a:rPr>
              <a:t>We saw a bird’s nest in a tree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ent on a camping trip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cccc"/>
                </a:solidFill>
                <a:latin typeface="Arial"/>
              </a:rPr>
              <a:t>We went on a camping trip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Grammar:  Predica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Predicates  tell what the subject of the sentence di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hiked up a mounta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</a:t>
            </a: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hiked up a mountai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il was har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il </a:t>
            </a: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was har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climbed up and u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</a:t>
            </a: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climbed up and u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Grammar:  Predica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 dad helped me a litt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 dad </a:t>
            </a:r>
            <a:r>
              <a:rPr b="1" lang="en-US" sz="2800" spc="-1" strike="noStrike">
                <a:solidFill>
                  <a:srgbClr val="00ffcc"/>
                </a:solidFill>
                <a:latin typeface="Arial"/>
              </a:rPr>
              <a:t>helped me a litt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view at the top was grea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view at the top </a:t>
            </a:r>
            <a:r>
              <a:rPr b="1" lang="en-US" sz="2800" spc="-1" strike="noStrike">
                <a:solidFill>
                  <a:srgbClr val="00ffcc"/>
                </a:solidFill>
                <a:latin typeface="Arial"/>
              </a:rPr>
              <a:t>was grea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enjoyed that hik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1" lang="en-US" sz="2800" spc="-1" strike="noStrike">
                <a:solidFill>
                  <a:srgbClr val="00ffcc"/>
                </a:solidFill>
                <a:latin typeface="Arial"/>
              </a:rPr>
              <a:t>enjoyed that hik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 dad carried a backpac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 dad </a:t>
            </a:r>
            <a:r>
              <a:rPr b="1" lang="en-US" sz="2800" spc="-1" strike="noStrike">
                <a:solidFill>
                  <a:srgbClr val="00ffcc"/>
                </a:solidFill>
                <a:latin typeface="Arial"/>
              </a:rPr>
              <a:t>carried a backpac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gave me a snac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</a:t>
            </a:r>
            <a:r>
              <a:rPr b="1" lang="en-US" sz="2800" spc="-1" strike="noStrike">
                <a:solidFill>
                  <a:srgbClr val="00ffcc"/>
                </a:solidFill>
                <a:latin typeface="Arial"/>
              </a:rPr>
              <a:t>gave me a snac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Henry &amp; Mudge</a:t>
            </a:r>
            <a:br>
              <a:rPr sz="4000"/>
            </a:b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Monday</a:t>
            </a:r>
            <a:br>
              <a:rPr sz="3600"/>
            </a:b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st activities that mak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feel tranquil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4" name="Picture 20" descr="Henry &amp; Mudge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077320" y="5410080"/>
            <a:ext cx="83808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Henry &amp; Mudge</a:t>
            </a:r>
            <a:br>
              <a:rPr sz="4400"/>
            </a:b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Tuesday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day we will read about a boy and his dog who explore nature on a camping trip.  What do people do when they camp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Henry &amp; Mudge</a:t>
            </a:r>
            <a:br>
              <a:rPr sz="4400"/>
            </a:b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Tuesday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day we will read about a boy and his dog who explore nature on a camping </a:t>
                      </a: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trip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 What do people do when they </a:t>
                      </a: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camp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oday we will learn about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amazing word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onant blend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acter and setting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itor and fix up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-frequency word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cabulary words, 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dic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Exploring Space</a:t>
            </a:r>
            <a:br>
              <a:rPr sz="4000"/>
            </a:b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Tuesday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905120" y="2819520"/>
          <a:ext cx="6095880" cy="22622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275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underneath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00"/>
                </a:solidFill>
                <a:latin typeface="Arial"/>
              </a:rPr>
              <a:t>un – der - ne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put a book under your chair, you can say the book is </a:t>
            </a:r>
            <a:r>
              <a:rPr b="1" i="1" lang="en-US" sz="3200" spc="-1" strike="noStrike">
                <a:solidFill>
                  <a:srgbClr val="808000"/>
                </a:solidFill>
                <a:latin typeface="Arial"/>
              </a:rPr>
              <a:t>undernea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your chai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socks are </a:t>
            </a:r>
            <a:r>
              <a:rPr b="1" i="1" lang="en-US" sz="3200" spc="-1" strike="noStrike">
                <a:solidFill>
                  <a:srgbClr val="808000"/>
                </a:solidFill>
                <a:latin typeface="Arial"/>
              </a:rPr>
              <a:t>undernea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y pajamas in the top draw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my lunchbox, I have an apple </a:t>
            </a:r>
            <a:r>
              <a:rPr b="1" i="1" lang="en-US" sz="3200" spc="-1" strike="noStrike">
                <a:solidFill>
                  <a:srgbClr val="808000"/>
                </a:solidFill>
                <a:latin typeface="Arial"/>
              </a:rPr>
              <a:t>undernea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y sandwi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enry &amp; Mudge</a:t>
            </a:r>
            <a:br>
              <a:rPr sz="4400"/>
            </a:b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Jigword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838080" y="1828800"/>
          <a:ext cx="3657600" cy="4267080"/>
        </p:xfrm>
        <a:graphic>
          <a:graphicData uri="http://schemas.openxmlformats.org/drawingml/2006/table">
            <a:tbl>
              <a:tblPr/>
              <a:tblGrid>
                <a:gridCol w="3657600"/>
              </a:tblGrid>
              <a:tr h="426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Vocabulary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iver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ool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nter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nuggl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4800600" y="1828800"/>
          <a:ext cx="3657600" cy="4191120"/>
        </p:xfrm>
        <a:graphic>
          <a:graphicData uri="http://schemas.openxmlformats.org/drawingml/2006/table">
            <a:tbl>
              <a:tblPr/>
              <a:tblGrid>
                <a:gridCol w="365760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Amazing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alax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nqui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ldlif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derneat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entif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tect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scinat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lim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identif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00"/>
                </a:solidFill>
                <a:latin typeface="Arial"/>
              </a:rPr>
              <a:t>i -  dent- i- f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you </a:t>
            </a:r>
            <a:r>
              <a:rPr b="1" i="1" lang="en-US" sz="3200" spc="-1" strike="noStrike">
                <a:solidFill>
                  <a:srgbClr val="808000"/>
                </a:solidFill>
                <a:latin typeface="Arial"/>
              </a:rPr>
              <a:t>identif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omething, you tell what it 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ags on a dog’s collar </a:t>
            </a:r>
            <a:r>
              <a:rPr b="1" i="1" lang="en-US" sz="3200" spc="-1" strike="noStrike">
                <a:solidFill>
                  <a:srgbClr val="808000"/>
                </a:solidFill>
                <a:latin typeface="Arial"/>
              </a:rPr>
              <a:t>identif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dog’s own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put my name on my lunchbox to </a:t>
            </a:r>
            <a:r>
              <a:rPr b="1" i="1" lang="en-US" sz="3200" spc="-1" strike="noStrike">
                <a:solidFill>
                  <a:srgbClr val="808000"/>
                </a:solidFill>
                <a:latin typeface="Arial"/>
              </a:rPr>
              <a:t>identif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detectiv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00"/>
                </a:solidFill>
                <a:latin typeface="Arial"/>
              </a:rPr>
              <a:t>de – tec - 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i="1" lang="en-US" sz="3200" spc="-1" strike="noStrike">
                <a:solidFill>
                  <a:srgbClr val="808000"/>
                </a:solidFill>
                <a:latin typeface="Arial"/>
              </a:rPr>
              <a:t>detectiv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a person who tries to solve a mystery or figure out a probl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are a word </a:t>
            </a:r>
            <a:r>
              <a:rPr b="1" i="1" lang="en-US" sz="3200" spc="-1" strike="noStrike">
                <a:solidFill>
                  <a:srgbClr val="808000"/>
                </a:solidFill>
                <a:latin typeface="Arial"/>
              </a:rPr>
              <a:t>detectiv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hen you figure out what a word mea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olice </a:t>
            </a:r>
            <a:r>
              <a:rPr b="1" i="1" lang="en-US" sz="3200" spc="-1" strike="noStrike">
                <a:solidFill>
                  <a:srgbClr val="808000"/>
                </a:solidFill>
                <a:latin typeface="Arial"/>
              </a:rPr>
              <a:t>detectiv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igures out who is responsible for a cr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Consonant Blends: </a:t>
            </a:r>
            <a:br>
              <a:rPr sz="4000"/>
            </a:b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3e3ff"/>
                </a:solidFill>
                <a:latin typeface="Arial"/>
              </a:rPr>
              <a:t>Find the words in “Nature’s Creatures” that have consonant blends.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18960" y="1752120"/>
            <a:ext cx="32763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creat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floc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crow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blac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bluebi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screech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48320" y="175212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g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croak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fro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snak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stretch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cc"/>
                </a:solidFill>
                <a:latin typeface="Arial"/>
              </a:rPr>
              <a:t>Sort these words with consonant blends: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de, plump, grace, slide, stand, brand, slump, stride, space, stump, trace, str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523880" y="2895480"/>
          <a:ext cx="6096240" cy="29257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0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cc"/>
                </a:solidFill>
                <a:latin typeface="Arial"/>
              </a:rPr>
              <a:t>Sort these words with consonant blends: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de, plump, grace, slide, stand, brand, slump, stride, space, stump, trace, str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1523880" y="2895480"/>
          <a:ext cx="6096240" cy="29257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0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cc"/>
                </a:solidFill>
                <a:latin typeface="Arial"/>
              </a:rPr>
              <a:t>Sort these words with consonant blends: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de, plump, grace, slide, stand, brand, slump, stride, space, stump, trace, str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1523880" y="2895480"/>
          <a:ext cx="6096240" cy="29257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0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cc"/>
                </a:solidFill>
                <a:latin typeface="Arial"/>
              </a:rPr>
              <a:t>Sort these words with consonant blends: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de, plump, grace, slide, stand, brand, slump, stride, space, stump, trace, str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1523880" y="2895480"/>
          <a:ext cx="6096240" cy="29257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0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cc"/>
                </a:solidFill>
                <a:latin typeface="Arial"/>
              </a:rPr>
              <a:t>Sort these words with consonant blends: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de, plump, grace, slide, stand, brand, slump, stride, space, stump, trace, str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523880" y="2895480"/>
          <a:ext cx="6096240" cy="29257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0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l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cc"/>
                </a:solidFill>
                <a:latin typeface="Arial"/>
              </a:rPr>
              <a:t>Sort these words with consonant blends: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de, plump, grace, slide, stand, brand, slump, stride, space, stump, trace, str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1523880" y="2895480"/>
          <a:ext cx="6096240" cy="29257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0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l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cc"/>
                </a:solidFill>
                <a:latin typeface="Arial"/>
              </a:rPr>
              <a:t>Sort these words with consonant blends: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de, plump, grace, slide, stand, brand, slump, stride, space, stump, trace, str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523880" y="2895480"/>
          <a:ext cx="6096240" cy="29257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0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l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enry &amp; Mudge</a:t>
            </a:r>
            <a:br>
              <a:rPr sz="4400"/>
            </a:b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Jigword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514600" y="1752480"/>
          <a:ext cx="4114800" cy="4102200"/>
        </p:xfrm>
        <a:graphic>
          <a:graphicData uri="http://schemas.openxmlformats.org/drawingml/2006/table">
            <a:tbl>
              <a:tblPr/>
              <a:tblGrid>
                <a:gridCol w="4114800"/>
              </a:tblGrid>
              <a:tr h="412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ffcc"/>
                          </a:solidFill>
                          <a:uFillTx/>
                          <a:latin typeface="Arial"/>
                          <a:hlinkClick r:id="rId2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th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th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aigh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ldn’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uil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Rectangle 15"/>
          <p:cNvSpPr/>
          <p:nvPr/>
        </p:nvSpPr>
        <p:spPr>
          <a:xfrm>
            <a:off x="6095880" y="190512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cc"/>
                </a:solidFill>
                <a:latin typeface="Arial"/>
              </a:rPr>
              <a:t>Sort these words with consonant blends: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de, plump, grace, slide, stand, brand, slump, stride, space, stump, trace, str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523880" y="2895480"/>
          <a:ext cx="6096240" cy="29257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0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l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l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cc"/>
                </a:solidFill>
                <a:latin typeface="Arial"/>
              </a:rPr>
              <a:t>Sort these words with consonant blends: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de, plump, grace, slide, stand, brand, slump, stride, space, stump, trace, str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523880" y="2895480"/>
          <a:ext cx="6096240" cy="29257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0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l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l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cc"/>
                </a:solidFill>
                <a:latin typeface="Arial"/>
              </a:rPr>
              <a:t>Sort these words with consonant blends: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de, plump, grace, slide, stand, brand, slump, stride, space, stump, trace, str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1523880" y="2895480"/>
          <a:ext cx="6096240" cy="29257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0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l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l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cc"/>
                </a:solidFill>
                <a:latin typeface="Arial"/>
              </a:rPr>
              <a:t>Sort these words with consonant blends: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de, plump, grace, slide, stand, brand, slump, stride, space, stump, trace, str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523880" y="2895480"/>
          <a:ext cx="6096240" cy="29257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0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l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l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cc"/>
                </a:solidFill>
                <a:latin typeface="Arial"/>
              </a:rPr>
              <a:t>Sort these words with consonant blends: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de, plump, grace, slide, stand, brand, slump, stride, space, stump, trace, str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1523880" y="2895480"/>
          <a:ext cx="6096240" cy="29257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0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l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l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cc"/>
                </a:solidFill>
                <a:latin typeface="Arial"/>
              </a:rPr>
              <a:t>Sort these words with consonant blends: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de, plump, grace, slide, stand, brand, slump, stride, space, stump, trace, str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1523880" y="2895480"/>
          <a:ext cx="6096240" cy="29257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-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0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l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l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onsonant Blends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d you stop to ask about the stat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d you </a:t>
            </a: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sto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as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bout the </a:t>
            </a: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sta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reeze blew the nest into the strea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breez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blew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</a:t>
            </a: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ne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to the </a:t>
            </a: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strea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twin put on the mask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</a:t>
            </a: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twi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ut on the </a:t>
            </a: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mas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haracter and Sett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acters are the people or animals in stor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ors describe their characters.  They tell what the characters look like, how they act, and how they think.  They also tell about the setting, or where the story takes pla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nowing about characters and setting can help a reader better understand a sto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onitor and Fix Up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times you may have questions while you are read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this happens, you should keep reading to see if you discover the answ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k yourself questions as you read so you will understand what you are read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High Frequency Word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276360" y="1600200"/>
            <a:ext cx="2895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a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ldn’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i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enry &amp; Mud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838080" y="1905120"/>
          <a:ext cx="3200400" cy="4190760"/>
        </p:xfrm>
        <a:graphic>
          <a:graphicData uri="http://schemas.openxmlformats.org/drawingml/2006/table">
            <a:tbl>
              <a:tblPr/>
              <a:tblGrid>
                <a:gridCol w="3200400"/>
              </a:tblGrid>
              <a:tr h="41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na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n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i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4917960" y="1905120"/>
          <a:ext cx="3311640" cy="4190760"/>
        </p:xfrm>
        <a:graphic>
          <a:graphicData uri="http://schemas.openxmlformats.org/drawingml/2006/table">
            <a:tbl>
              <a:tblPr/>
              <a:tblGrid>
                <a:gridCol w="3311640"/>
              </a:tblGrid>
              <a:tr h="41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ffcc"/>
                          </a:solidFill>
                          <a:uFillTx/>
                          <a:latin typeface="Arial"/>
                          <a:hlinkClick r:id="rId1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op             mas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ap            twi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             breez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nd            sta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ave           </a:t>
                      </a:r>
                      <a:r>
                        <a:rPr b="0" lang="en-US" sz="24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brows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k              </a:t>
                      </a:r>
                      <a:r>
                        <a:rPr b="0" lang="en-US" sz="24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straigh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ip              </a:t>
                      </a:r>
                      <a:r>
                        <a:rPr b="0" lang="en-US" sz="24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skelet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Henry &amp; Mudge</a:t>
            </a:r>
            <a:br>
              <a:rPr sz="4000"/>
            </a:b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Vocabulary Words</a:t>
            </a:r>
            <a:br>
              <a:rPr sz="4000"/>
            </a:br>
            <a:r>
              <a:rPr b="0" lang="en-US" sz="2000" spc="-1" strike="noStrike">
                <a:solidFill>
                  <a:srgbClr val="e3e3ff"/>
                </a:solidFill>
                <a:latin typeface="Arial"/>
              </a:rPr>
              <a:t>Jigword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228600" y="1905120"/>
          <a:ext cx="8686800" cy="3276360"/>
        </p:xfrm>
        <a:graphic>
          <a:graphicData uri="http://schemas.openxmlformats.org/drawingml/2006/table">
            <a:tbl>
              <a:tblPr/>
              <a:tblGrid>
                <a:gridCol w="8686800"/>
              </a:tblGrid>
              <a:tr h="32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ivered – shook with fea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ooled – let saliva run from the mouth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nterns – lights inside containers that can be carried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nuggled – cuddled togethe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my friend and I slept in my backyard, I got so cold I _____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my friend and I slept in my backyard, I got so cold I </a:t>
            </a: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shiver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____ with my dog Ben to keep war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snuggl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ith my dog Ben to keep war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____ on me, but I didn’t ca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</a:t>
            </a: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drool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n me, but I didn’t ca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as glad we both had ____ so it wasn’t so dar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as glad we both had </a:t>
            </a: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lanter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o it wasn’t so dar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0" y="38052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aily Fix-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 nice breez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cccc"/>
                </a:solidFill>
                <a:latin typeface="Arial"/>
              </a:rPr>
              <a:t>A nice breeze fanned our faces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my dad and I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cccc"/>
                </a:solidFill>
                <a:latin typeface="Arial"/>
              </a:rPr>
              <a:t>My dad and I went hiking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Grammar:  Predica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Predicates  tell what the subject of the sentence di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nry and Mudge went camp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nry and Mudge </a:t>
            </a: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went camp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gir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girl </a:t>
            </a: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rides her bik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wo bo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wo boys </a:t>
            </a: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play catc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Henry &amp; Mudge</a:t>
            </a:r>
            <a:br>
              <a:rPr sz="4400"/>
            </a:b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Tuesday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rite about what you might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e and feel while camping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tside overnight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60" name="Picture 17" descr="Henry &amp; Mudge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077320" y="5410080"/>
            <a:ext cx="83808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Henry &amp; Mudge</a:t>
            </a:r>
            <a:br>
              <a:rPr sz="4400"/>
            </a:b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Wednesday 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1600200" y="2209680"/>
          <a:ext cx="6095880" cy="33829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3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re are many things to learn about the forest.   Some animals and plants look different close-up and far away.  What else can we discover by exploring nature in the forest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Henry &amp; Mudge</a:t>
            </a:r>
            <a:br>
              <a:rPr sz="4400"/>
            </a:b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Wednesday 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1600200" y="2209680"/>
          <a:ext cx="6095880" cy="33829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3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re are many things to learn about the forest.   Some animals and plants </a:t>
                      </a: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look different close-up and far away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 What else can we discover by exploring nature in the forest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oday we will learn about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ng vowels CVC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ds with consonant blend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-frequency word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azing word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nonyms, 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dic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Exploring Space</a:t>
            </a:r>
            <a:br>
              <a:rPr sz="4000"/>
            </a:b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Wednesday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1905120" y="2819520"/>
          <a:ext cx="6095880" cy="22622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275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58880" y="9903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Big Question:</a:t>
            </a:r>
            <a:br>
              <a:rPr sz="4000"/>
            </a:b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What can we discover by exploring nature?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266688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Mon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2" action="ppaction://hlinksldjump"/>
              </a:rPr>
              <a:t>Tues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3" action="ppaction://hlinksldjump"/>
              </a:rPr>
              <a:t>Wednes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urs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i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fascinat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00"/>
                </a:solidFill>
                <a:latin typeface="Arial"/>
              </a:rPr>
              <a:t>fas – ci – nat - 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thing that is </a:t>
            </a:r>
            <a:r>
              <a:rPr b="1" i="1" lang="en-US" sz="3200" spc="-1" strike="noStrike">
                <a:solidFill>
                  <a:srgbClr val="808000"/>
                </a:solidFill>
                <a:latin typeface="Arial"/>
              </a:rPr>
              <a:t>fascinat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very interesting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read about a girl who found insects </a:t>
            </a:r>
            <a:r>
              <a:rPr b="1" i="1" lang="en-US" sz="3200" spc="-1" strike="noStrike">
                <a:solidFill>
                  <a:srgbClr val="808000"/>
                </a:solidFill>
                <a:latin typeface="Arial"/>
              </a:rPr>
              <a:t>fascinat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read a </a:t>
            </a:r>
            <a:r>
              <a:rPr b="1" i="1" lang="en-US" sz="3200" spc="-1" strike="noStrike">
                <a:solidFill>
                  <a:srgbClr val="808000"/>
                </a:solidFill>
                <a:latin typeface="Arial"/>
              </a:rPr>
              <a:t>fascinat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ook about elepha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slim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00"/>
                </a:solidFill>
                <a:latin typeface="Arial"/>
              </a:rPr>
              <a:t>slim - 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thing </a:t>
            </a:r>
            <a:r>
              <a:rPr b="1" i="1" lang="en-US" sz="3200" spc="-1" strike="noStrike">
                <a:solidFill>
                  <a:srgbClr val="808000"/>
                </a:solidFill>
                <a:latin typeface="Arial"/>
              </a:rPr>
              <a:t>slim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eels slippery and gooey when you touch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people think snakes feel </a:t>
            </a:r>
            <a:r>
              <a:rPr b="1" i="1" lang="en-US" sz="3200" spc="-1" strike="noStrike">
                <a:solidFill>
                  <a:srgbClr val="808000"/>
                </a:solidFill>
                <a:latin typeface="Arial"/>
              </a:rPr>
              <a:t>slim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but they really don’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ud at the bottom of the river felt </a:t>
            </a:r>
            <a:r>
              <a:rPr b="1" i="1" lang="en-US" sz="3200" spc="-1" strike="noStrike">
                <a:solidFill>
                  <a:srgbClr val="808000"/>
                </a:solidFill>
                <a:latin typeface="Arial"/>
              </a:rPr>
              <a:t>slim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n my fe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Making Word</a:t>
            </a:r>
            <a:br>
              <a:rPr sz="4400"/>
            </a:b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 Letter Til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6960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u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f - l - m - n - t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High Frequency Words</a:t>
            </a:r>
            <a:br>
              <a:rPr sz="4000"/>
            </a:br>
            <a:r>
              <a:rPr b="1" lang="en-US" sz="2400" spc="-1" strike="noStrike">
                <a:solidFill>
                  <a:srgbClr val="e3e3ff"/>
                </a:solidFill>
                <a:latin typeface="Arial"/>
              </a:rPr>
              <a:t>Hot Potatoes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361960" y="1600200"/>
            <a:ext cx="4267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b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bui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couldn’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fa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lo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mo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stra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High Frequency Word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What are the high frequency words in each sentenc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mother and father took me camping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</a:t>
            </a: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moth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fath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ok me camp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as afraid we would see a be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as afraid we would see a </a:t>
            </a: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bea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High Frequency Word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What are the high frequency words in each sentenc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couldn’t believe that my mom could build a fi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couldn’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elieve that my mom could </a:t>
            </a: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buil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 fi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went straight home after we camp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went </a:t>
            </a: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straigh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ome after we camp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Vocabulary:  Synonyms</a:t>
            </a:r>
            <a:br>
              <a:rPr sz="4000"/>
            </a:br>
            <a:r>
              <a:rPr b="1" lang="en-US" sz="2400" spc="-1" strike="noStrike">
                <a:solidFill>
                  <a:srgbClr val="e3e3ff"/>
                </a:solidFill>
                <a:latin typeface="Arial"/>
              </a:rPr>
              <a:t>Which vocabulary words means the same as the underlined word?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7720" y="220932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cc"/>
                </a:solidFill>
                <a:latin typeface="Arial"/>
              </a:rPr>
              <a:t>He </a:t>
            </a:r>
            <a:r>
              <a:rPr b="0" lang="en-US" sz="3600" spc="-1" strike="noStrike" u="sng">
                <a:solidFill>
                  <a:srgbClr val="00ffcc"/>
                </a:solidFill>
                <a:uFillTx/>
                <a:latin typeface="Arial"/>
              </a:rPr>
              <a:t>shook</a:t>
            </a:r>
            <a:r>
              <a:rPr b="0" lang="en-US" sz="3600" spc="-1" strike="noStrike">
                <a:solidFill>
                  <a:srgbClr val="00ffcc"/>
                </a:solidFill>
                <a:latin typeface="Arial"/>
              </a:rPr>
              <a:t> and put an arm around Mudg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cc"/>
                </a:solidFill>
                <a:latin typeface="Arial"/>
              </a:rPr>
              <a:t>Henry unpacked the food and pans and </a:t>
            </a:r>
            <a:r>
              <a:rPr b="0" lang="en-US" sz="3600" spc="-1" strike="noStrike" u="sng">
                <a:solidFill>
                  <a:srgbClr val="00ffcc"/>
                </a:solidFill>
                <a:uFillTx/>
                <a:latin typeface="Arial"/>
              </a:rPr>
              <a:t>lights</a:t>
            </a:r>
            <a:r>
              <a:rPr b="0" lang="en-US" sz="36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cc"/>
                </a:solidFill>
                <a:latin typeface="Arial"/>
              </a:rPr>
              <a:t>Henry’s father and mother </a:t>
            </a:r>
            <a:r>
              <a:rPr b="0" lang="en-US" sz="3600" spc="-1" strike="noStrike" u="sng">
                <a:solidFill>
                  <a:srgbClr val="00ffcc"/>
                </a:solidFill>
                <a:uFillTx/>
                <a:latin typeface="Arial"/>
              </a:rPr>
              <a:t>cuddled</a:t>
            </a:r>
            <a:r>
              <a:rPr b="0" lang="en-US" sz="36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151920" y="0"/>
            <a:ext cx="8991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aily Fix-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e stap on my backpack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cccc"/>
                </a:solidFill>
                <a:latin typeface="Arial"/>
              </a:rPr>
              <a:t>The strap on my backpack broke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at stem of wate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cccc"/>
                </a:solidFill>
                <a:latin typeface="Arial"/>
              </a:rPr>
              <a:t>That stream of water was cold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Grammar:  Predicates</a:t>
            </a:r>
            <a:br>
              <a:rPr sz="4000"/>
            </a:br>
            <a:br>
              <a:rPr sz="2400"/>
            </a:b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Predicates  tell what the subject of the sentence did.</a:t>
            </a:r>
            <a:br>
              <a:rPr sz="4000"/>
            </a:b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day I found a baby bird on the sidewal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day I 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found a baby bird on the sidewal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looked up and saw the bird’s nest in a tre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looked up and saw the bird’s nest in a tre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aby must have fallen out of the ne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aby 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must have fallen out of the ne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Henry &amp; Mudge</a:t>
            </a:r>
            <a:br>
              <a:rPr sz="4000"/>
            </a:b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Wednesday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synonyms in pairs of sentences about going camping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88" name="Picture 14" descr="Henry &amp; Mudge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153280" y="5410080"/>
            <a:ext cx="83844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Henry &amp; Mudge</a:t>
            </a:r>
            <a:br>
              <a:rPr sz="4000"/>
            </a:b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Monday</a:t>
            </a:r>
            <a:br>
              <a:rPr sz="3600"/>
            </a:b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600200" y="2133720"/>
          <a:ext cx="6095880" cy="389556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90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can learn about animals everywhere in the world.  We can learn how stars move in the sky.  What else can we discover by exploring nature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Rectangle 15"/>
          <p:cNvSpPr/>
          <p:nvPr/>
        </p:nvSpPr>
        <p:spPr>
          <a:xfrm>
            <a:off x="312408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Henry &amp; Mudge</a:t>
            </a:r>
            <a:br>
              <a:rPr sz="4000"/>
            </a:b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Thursday 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do stars make pictures in the sky?  You can see some star pictures during autumn and some others before the fall season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Henry &amp; Mudge</a:t>
            </a:r>
            <a:br>
              <a:rPr sz="4000"/>
            </a:b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Thursday 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do stars make pictures in the sky?  You can see some star pictures during </a:t>
                      </a:r>
                      <a:r>
                        <a:rPr b="1" lang="en-US" sz="28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autumn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nd some others before the </a:t>
                      </a:r>
                      <a:r>
                        <a:rPr b="1" lang="en-US" sz="28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fall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eason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entence Read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trap on the backpack broke and books went everyw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 was brave enough to live and work in the wide open Wes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chines help dump and spread piles of rock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will bake bread for our snac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ind was strong enough to make the kite mo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ise woman just went on a trip around the wor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151920" y="0"/>
            <a:ext cx="8991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Daily Fix-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Jen’s bik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cccc"/>
                </a:solidFill>
                <a:latin typeface="Arial"/>
              </a:rPr>
              <a:t>Jen’s bike had a flat tire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he and jim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cccc"/>
                </a:solidFill>
                <a:latin typeface="Arial"/>
              </a:rPr>
              <a:t>She and Jim walked home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Grammar:  Predicates</a:t>
            </a:r>
            <a:br>
              <a:rPr sz="2400"/>
            </a:b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Predicates  tell what the subject of the sentence did.</a:t>
            </a:r>
            <a:br>
              <a:rPr sz="4000"/>
            </a:b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im and Jen liked to ride their bik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im and Jen </a:t>
            </a:r>
            <a:r>
              <a:rPr b="1" lang="en-US" sz="2400" spc="-1" strike="noStrike">
                <a:solidFill>
                  <a:srgbClr val="00ffcc"/>
                </a:solidFill>
                <a:latin typeface="Arial"/>
              </a:rPr>
              <a:t>liked to ride their bik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wanted to explore na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1" lang="en-US" sz="2400" spc="-1" strike="noStrike">
                <a:solidFill>
                  <a:srgbClr val="00ffcc"/>
                </a:solidFill>
                <a:latin typeface="Arial"/>
              </a:rPr>
              <a:t>wanted to explore natu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rode their bikes to the par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1" lang="en-US" sz="2400" spc="-1" strike="noStrike">
                <a:solidFill>
                  <a:srgbClr val="00ffcc"/>
                </a:solidFill>
                <a:latin typeface="Arial"/>
              </a:rPr>
              <a:t>rode their bikes to the par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th of them looked for living thing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th of them </a:t>
            </a:r>
            <a:r>
              <a:rPr b="1" lang="en-US" sz="2400" spc="-1" strike="noStrike">
                <a:solidFill>
                  <a:srgbClr val="00ffcc"/>
                </a:solidFill>
                <a:latin typeface="Arial"/>
              </a:rPr>
              <a:t>looked for living thing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found trees, insects, and bir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1" lang="en-US" sz="2400" spc="-1" strike="noStrike">
                <a:solidFill>
                  <a:srgbClr val="00ffcc"/>
                </a:solidFill>
                <a:latin typeface="Arial"/>
              </a:rPr>
              <a:t>found trees, insects, and bird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Be a Good Speake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good speaker does several things as he or she is in a classroom discuss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ak slowly and careful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nd or sit up straigh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ise your hand and ask to spea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ak loudly enough to be hear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ke tur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Henry &amp; Mudge</a:t>
            </a:r>
            <a:br>
              <a:rPr sz="4400"/>
            </a:b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Thursday 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st wildlife in a park or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r backyard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02" name="Picture 13" descr="Henry &amp; Mudge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077320" y="5410080"/>
            <a:ext cx="83808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Henry &amp; Mudge</a:t>
            </a:r>
            <a:br>
              <a:rPr sz="4000"/>
            </a:b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Friday 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1600200" y="2209680"/>
          <a:ext cx="6095880" cy="33829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3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s week we read about exploring nature.  Henry and Mudge found wildlife and a galaxy of stars.  If they looked underneath rocks, could they identify fascinating insects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oday we will learn about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onant blend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week’s word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dicates, 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s of a bo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enry &amp; Mudge</a:t>
            </a:r>
            <a:br>
              <a:rPr sz="4400"/>
            </a:b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Jigword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838080" y="1828800"/>
          <a:ext cx="3657600" cy="4267080"/>
        </p:xfrm>
        <a:graphic>
          <a:graphicData uri="http://schemas.openxmlformats.org/drawingml/2006/table">
            <a:tbl>
              <a:tblPr/>
              <a:tblGrid>
                <a:gridCol w="3657600"/>
              </a:tblGrid>
              <a:tr h="426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Vocabulary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iver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ool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nter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nuggl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4800600" y="1828800"/>
          <a:ext cx="3657600" cy="4191120"/>
        </p:xfrm>
        <a:graphic>
          <a:graphicData uri="http://schemas.openxmlformats.org/drawingml/2006/table">
            <a:tbl>
              <a:tblPr/>
              <a:tblGrid>
                <a:gridCol w="365760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Amazing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alax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nqui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ldlif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derneat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entif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tect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scinat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lim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Henry &amp; Mudge</a:t>
            </a:r>
            <a:br>
              <a:rPr sz="4000"/>
            </a:b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Monday</a:t>
            </a:r>
            <a:br>
              <a:rPr sz="3600"/>
            </a:b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600200" y="2133720"/>
          <a:ext cx="6095880" cy="389556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90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can learn about animals </a:t>
                      </a: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everywher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n the </a:t>
                      </a: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world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 We can learn how stars </a:t>
                      </a: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mov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n the sky.  What else can we discover by exploring nature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Rectangle 9"/>
          <p:cNvSpPr/>
          <p:nvPr/>
        </p:nvSpPr>
        <p:spPr>
          <a:xfrm>
            <a:off x="312408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enry &amp; Mudge</a:t>
            </a:r>
            <a:br>
              <a:rPr sz="4400"/>
            </a:b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Jigword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2514600" y="1752480"/>
          <a:ext cx="4114800" cy="4102200"/>
        </p:xfrm>
        <a:graphic>
          <a:graphicData uri="http://schemas.openxmlformats.org/drawingml/2006/table">
            <a:tbl>
              <a:tblPr/>
              <a:tblGrid>
                <a:gridCol w="4114800"/>
              </a:tblGrid>
              <a:tr h="412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th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th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aigh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ldn’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uil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2" name="Rectangle 9"/>
          <p:cNvSpPr/>
          <p:nvPr/>
        </p:nvSpPr>
        <p:spPr>
          <a:xfrm>
            <a:off x="6095880" y="190512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enry &amp; Mud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838080" y="1905120"/>
          <a:ext cx="3200400" cy="4190760"/>
        </p:xfrm>
        <a:graphic>
          <a:graphicData uri="http://schemas.openxmlformats.org/drawingml/2006/table">
            <a:tbl>
              <a:tblPr/>
              <a:tblGrid>
                <a:gridCol w="3200400"/>
              </a:tblGrid>
              <a:tr h="41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na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n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i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5" name=""/>
          <p:cNvGraphicFramePr/>
          <p:nvPr/>
        </p:nvGraphicFramePr>
        <p:xfrm>
          <a:off x="4917960" y="1905120"/>
          <a:ext cx="3311640" cy="4190760"/>
        </p:xfrm>
        <a:graphic>
          <a:graphicData uri="http://schemas.openxmlformats.org/drawingml/2006/table">
            <a:tbl>
              <a:tblPr/>
              <a:tblGrid>
                <a:gridCol w="3311640"/>
              </a:tblGrid>
              <a:tr h="41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op             mas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ap            twi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             breez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nd            sta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ave           </a:t>
                      </a:r>
                      <a:r>
                        <a:rPr b="0" lang="en-US" sz="24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brows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k              </a:t>
                      </a:r>
                      <a:r>
                        <a:rPr b="0" lang="en-US" sz="24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straigh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ip              </a:t>
                      </a:r>
                      <a:r>
                        <a:rPr b="0" lang="en-US" sz="24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skelet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Consonant Blends </a:t>
            </a:r>
            <a:br>
              <a:rPr sz="4000"/>
            </a:br>
            <a:r>
              <a:rPr b="1" lang="en-US" sz="2000" spc="-1" strike="noStrike">
                <a:solidFill>
                  <a:srgbClr val="e3e3ff"/>
                </a:solidFill>
                <a:latin typeface="Arial"/>
              </a:rPr>
              <a:t>Choose the words in each sentence that have consonant blends.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green frog is sma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gree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fro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</a:t>
            </a: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smal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d you slip on the stone step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d you </a:t>
            </a: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sli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n the </a:t>
            </a: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sto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ste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will fly to the state of Florid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will </a:t>
            </a: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fl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the </a:t>
            </a: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sta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</a:t>
            </a: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Florid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tree is the last one we will pla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</a:t>
            </a: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tre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the </a:t>
            </a: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la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ne we will </a:t>
            </a: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pla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High Frequency Words</a:t>
            </a:r>
            <a:br>
              <a:rPr sz="4000"/>
            </a:br>
            <a:r>
              <a:rPr b="1" lang="en-US" sz="2400" spc="-1" strike="noStrike">
                <a:solidFill>
                  <a:srgbClr val="e3e3ff"/>
                </a:solidFill>
                <a:latin typeface="Arial"/>
              </a:rPr>
              <a:t>bear, straight, love, mother, father, build, couldn’t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 ____ is the greatest 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____ him with all my hea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 _____ is the greatest mo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will never be apa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____ ask for better fol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help me _____ bake or s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help me keep my bedroom_____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give me a big ____ hug, you know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723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Daily Fix-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Henry and Mudg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cccc"/>
                </a:solidFill>
                <a:latin typeface="Arial"/>
              </a:rPr>
              <a:t>Henry and Mudge went camping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e cooking does Henry’s mothe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cccc"/>
                </a:solidFill>
                <a:latin typeface="Arial"/>
              </a:rPr>
              <a:t>Henry’s mother does the cooking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33cccc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arts of a Boo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need to locate information about something in a book, you can use parts of the book to help yo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the </a:t>
            </a: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table of conten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find out what the book is about.  It shows the chapters in the book and what page they start 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inde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lists topics in alphabetical ord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glossar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ells you the meanings of words in the book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9" dur="indefinite" restart="never" nodeType="tmRoot">
          <p:childTnLst>
            <p:seq>
              <p:cTn id="960" dur="indefinite" nodeType="mainSeq">
                <p:childTnLst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arts of a Boo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304920" y="1600200"/>
          <a:ext cx="8381880" cy="4267080"/>
        </p:xfrm>
        <a:graphic>
          <a:graphicData uri="http://schemas.openxmlformats.org/drawingml/2006/table">
            <a:tbl>
              <a:tblPr/>
              <a:tblGrid>
                <a:gridCol w="2793960"/>
                <a:gridCol w="2793960"/>
                <a:gridCol w="2793960"/>
              </a:tblGrid>
              <a:tr h="126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 of a b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re is it in the book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do we use it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arts of a Boo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304920" y="1600200"/>
          <a:ext cx="8381880" cy="4267080"/>
        </p:xfrm>
        <a:graphic>
          <a:graphicData uri="http://schemas.openxmlformats.org/drawingml/2006/table">
            <a:tbl>
              <a:tblPr/>
              <a:tblGrid>
                <a:gridCol w="2793960"/>
                <a:gridCol w="2793960"/>
                <a:gridCol w="2793960"/>
              </a:tblGrid>
              <a:tr h="126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 of a b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re is it in the book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do we use it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ble of conte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arts of a Boo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304920" y="1600200"/>
          <a:ext cx="8381880" cy="4267080"/>
        </p:xfrm>
        <a:graphic>
          <a:graphicData uri="http://schemas.openxmlformats.org/drawingml/2006/table">
            <a:tbl>
              <a:tblPr/>
              <a:tblGrid>
                <a:gridCol w="2793960"/>
                <a:gridCol w="2793960"/>
                <a:gridCol w="2793960"/>
              </a:tblGrid>
              <a:tr h="126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 of a b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re is it in the book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do we use it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ble of conte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fro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arts of a Boo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304920" y="1600200"/>
          <a:ext cx="8381880" cy="4267080"/>
        </p:xfrm>
        <a:graphic>
          <a:graphicData uri="http://schemas.openxmlformats.org/drawingml/2006/table">
            <a:tbl>
              <a:tblPr/>
              <a:tblGrid>
                <a:gridCol w="2793960"/>
                <a:gridCol w="2793960"/>
                <a:gridCol w="2793960"/>
              </a:tblGrid>
              <a:tr h="126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 of a b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re is it in the book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do we use it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ble of conte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fro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find out the chapters and page numb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oday we will learn about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amazing word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onant blend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acter and setting, 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dic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arts of a Boo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304920" y="1600200"/>
          <a:ext cx="8381880" cy="4267080"/>
        </p:xfrm>
        <a:graphic>
          <a:graphicData uri="http://schemas.openxmlformats.org/drawingml/2006/table">
            <a:tbl>
              <a:tblPr/>
              <a:tblGrid>
                <a:gridCol w="2793960"/>
                <a:gridCol w="2793960"/>
                <a:gridCol w="2793960"/>
              </a:tblGrid>
              <a:tr h="126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 of a b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re is it in the book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do we use it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ble of conte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inde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fro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find out the chapters and page numb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arts of a Boo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304920" y="1600200"/>
          <a:ext cx="8381880" cy="4267080"/>
        </p:xfrm>
        <a:graphic>
          <a:graphicData uri="http://schemas.openxmlformats.org/drawingml/2006/table">
            <a:tbl>
              <a:tblPr/>
              <a:tblGrid>
                <a:gridCol w="2793960"/>
                <a:gridCol w="2793960"/>
                <a:gridCol w="2793960"/>
              </a:tblGrid>
              <a:tr h="126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 of a b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re is it in the book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do we use it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ble of conte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inde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fro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the ba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find out the chapters and page numb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arts of a Boo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304920" y="1600200"/>
          <a:ext cx="8381880" cy="4267080"/>
        </p:xfrm>
        <a:graphic>
          <a:graphicData uri="http://schemas.openxmlformats.org/drawingml/2006/table">
            <a:tbl>
              <a:tblPr/>
              <a:tblGrid>
                <a:gridCol w="2793960"/>
                <a:gridCol w="2793960"/>
                <a:gridCol w="2793960"/>
              </a:tblGrid>
              <a:tr h="126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 of a b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re is it in the book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do we use it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ble of conte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inde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fro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the ba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find out the chapters and page numb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to find topics in the b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arts of a Boo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304920" y="1600200"/>
          <a:ext cx="8381880" cy="4267080"/>
        </p:xfrm>
        <a:graphic>
          <a:graphicData uri="http://schemas.openxmlformats.org/drawingml/2006/table">
            <a:tbl>
              <a:tblPr/>
              <a:tblGrid>
                <a:gridCol w="2793960"/>
                <a:gridCol w="2793960"/>
                <a:gridCol w="2793960"/>
              </a:tblGrid>
              <a:tr h="125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 of a b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re is it in the book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do we use it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0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ble of conte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inde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lossa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fro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the ba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find out the chapters and page numb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to find topics in the b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arts of a Boo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304920" y="1600200"/>
          <a:ext cx="8381880" cy="4340160"/>
        </p:xfrm>
        <a:graphic>
          <a:graphicData uri="http://schemas.openxmlformats.org/drawingml/2006/table">
            <a:tbl>
              <a:tblPr/>
              <a:tblGrid>
                <a:gridCol w="2793960"/>
                <a:gridCol w="2793960"/>
                <a:gridCol w="2793960"/>
              </a:tblGrid>
              <a:tr h="124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 of a b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re is it in the book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do we use it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ble of conte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inde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lossa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fro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the ba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back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find out the chapters and page numb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to find topics in the b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arts of a Boo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304920" y="1600200"/>
          <a:ext cx="8381880" cy="4511520"/>
        </p:xfrm>
        <a:graphic>
          <a:graphicData uri="http://schemas.openxmlformats.org/drawingml/2006/table">
            <a:tbl>
              <a:tblPr/>
              <a:tblGrid>
                <a:gridCol w="2793960"/>
                <a:gridCol w="2793960"/>
                <a:gridCol w="2793960"/>
              </a:tblGrid>
              <a:tr h="125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 of a b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re is it in the book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do we use it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ble of conte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inde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lossa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fro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the ba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back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find out the chapters and page numb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to find topics in the b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ning of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Review Gam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523880" y="1295280"/>
            <a:ext cx="7315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ocabulary &amp; Amazing Word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igw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pelling Word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ia Ga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pelling C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igh Frequency Word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t Potatoes (fill-in-the-blank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e are now ready to take our story tests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133360" y="1600200"/>
            <a:ext cx="6553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ory t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room webpage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 page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aking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Reading Quizz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iz # 90460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Henry &amp; Mudge</a:t>
            </a:r>
            <a:br>
              <a:rPr sz="4400"/>
            </a:b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Friday 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rite about traveling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rough the galaxy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49" name="Picture 13" descr="Henry &amp; Mudge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153280" y="5410080"/>
            <a:ext cx="83844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01:49:22Z</dcterms:created>
  <dc:creator>freida</dc:creator>
  <dc:description/>
  <dc:language>en-US</dc:language>
  <cp:lastModifiedBy>Laura McDow</cp:lastModifiedBy>
  <dcterms:modified xsi:type="dcterms:W3CDTF">2010-07-29T09:12:05Z</dcterms:modified>
  <cp:revision>20</cp:revision>
  <dc:subject/>
  <dc:title>Slide 1</dc:title>
</cp:coreProperties>
</file>